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4536-E41C-4672-8BF2-3EE094E2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ACED-D315-4322-A7EF-90509E1E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D31F-9469-4FF6-87BA-403BDBA9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36B2-F131-4670-A5AC-9AD2784C2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747F-18F6-437D-9B75-813529E3E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3C3E-C313-49BD-BFDF-2A68CDF8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9B81-8553-4726-9E6F-77377020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B2A7-E52C-4EE5-ADC3-D98FDF9D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7B14-4981-4F42-B22F-F3AF7346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4134-7655-4E66-A04E-1538BF63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DD07-A7AD-4D98-BBF2-EE9EEC4C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920F-CDF8-4C5C-BE4E-7AE10FB2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A313-E611-4156-A512-11A0AA96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E1C0-F7AB-4A46-AB09-CC13030F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9D5D-E9D3-490E-8B2D-E394682A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D59E-2415-4EBB-BB2E-D30846AA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82F3-0181-44CC-A79C-592A8A43A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15CD-4AE9-4E1B-837A-DB3B3056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E0D4-78D1-4DF8-BB4F-4EC8F16E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979B-043E-48E4-A08C-DA6CA9CF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A37E-10F4-4902-9E15-166413CB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187F-B87D-4F31-AD20-963513F4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B4B5-38AC-4E80-9124-DBE496E2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8C3B-B5F8-495D-B16B-BA1ED668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021F-8ACE-4294-8A39-A149CDFBFC5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2646-717F-4CFC-94D5-FAC63C4720E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99"/>
                </a:solidFill>
                <a:latin typeface="Garamond"/>
              </a:rPr>
              <a:t>The War in the Pacific</a:t>
            </a:r>
            <a:endParaRPr b="0" lang="en-US" sz="7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87" name="Picture 4" descr="pacifc"/>
          <p:cNvPicPr/>
          <p:nvPr/>
        </p:nvPicPr>
        <p:blipFill>
          <a:blip r:embed="rId1"/>
          <a:stretch/>
        </p:blipFill>
        <p:spPr>
          <a:xfrm>
            <a:off x="1600200" y="1447920"/>
            <a:ext cx="584208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Bombing of Japan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19" name="Picture 7" descr="780px-Tokyo_1945-3-10-1"/>
          <p:cNvPicPr/>
          <p:nvPr/>
        </p:nvPicPr>
        <p:blipFill>
          <a:blip r:embed="rId1"/>
          <a:stretch/>
        </p:blipFill>
        <p:spPr>
          <a:xfrm>
            <a:off x="152280" y="1143000"/>
            <a:ext cx="4343400" cy="334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0" name="Picture 6" descr="800px-Tokyo_kushu_1945-3"/>
          <p:cNvPicPr/>
          <p:nvPr/>
        </p:nvPicPr>
        <p:blipFill>
          <a:blip r:embed="rId2"/>
          <a:stretch/>
        </p:blipFill>
        <p:spPr>
          <a:xfrm>
            <a:off x="4572000" y="1371600"/>
            <a:ext cx="4419720" cy="284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96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-29 bomber rai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1945-end of war (seven month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night in Mar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square miles of Tokyo destr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3,000 Japanese ki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,000 inj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“</a:t>
            </a: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Europe First”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dn’t mean the Pacific was igno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6wii"/>
          <p:cNvPicPr/>
          <p:nvPr/>
        </p:nvPicPr>
        <p:blipFill>
          <a:blip r:embed="rId1"/>
          <a:stretch/>
        </p:blipFill>
        <p:spPr>
          <a:xfrm>
            <a:off x="1143000" y="1752480"/>
            <a:ext cx="693432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June 4, 1942: The Battle of Midwa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erican naval 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panese: take the island, establish military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.S. Navy code-breake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MidwayMap"/>
          <p:cNvPicPr/>
          <p:nvPr/>
        </p:nvPicPr>
        <p:blipFill>
          <a:blip r:embed="rId1"/>
          <a:stretch/>
        </p:blipFill>
        <p:spPr>
          <a:xfrm>
            <a:off x="4343400" y="1295280"/>
            <a:ext cx="464832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The Battle of Midwa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95" name="Picture 4" descr="battle-midway"/>
          <p:cNvPicPr/>
          <p:nvPr/>
        </p:nvPicPr>
        <p:blipFill>
          <a:blip r:embed="rId1"/>
          <a:stretch/>
        </p:blipFill>
        <p:spPr>
          <a:xfrm>
            <a:off x="228600" y="1752480"/>
            <a:ext cx="4419720" cy="35258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ir att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 Japanese aircraft carriers su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 airc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enced pi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 American aircraft carri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August 1942: Guadalcanal 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.S. Strateg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-front w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west and central Pac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ture b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USMC-C-Guadalcanal-1"/>
          <p:cNvPicPr/>
          <p:nvPr/>
        </p:nvPicPr>
        <p:blipFill>
          <a:blip r:embed="rId1"/>
          <a:stretch/>
        </p:blipFill>
        <p:spPr>
          <a:xfrm>
            <a:off x="6172200" y="152280"/>
            <a:ext cx="2598840" cy="6400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USMC-C-Guadalcanal-map"/>
          <p:cNvPicPr/>
          <p:nvPr/>
        </p:nvPicPr>
        <p:blipFill>
          <a:blip r:embed="rId2"/>
          <a:stretch/>
        </p:blipFill>
        <p:spPr>
          <a:xfrm>
            <a:off x="609480" y="3505320"/>
            <a:ext cx="4114800" cy="3054240"/>
          </a:xfrm>
          <a:prstGeom prst="rect">
            <a:avLst/>
          </a:prstGeom>
          <a:ln w="0">
            <a:noFill/>
          </a:ln>
        </p:spPr>
      </p:pic>
      <p:sp>
        <p:nvSpPr>
          <p:cNvPr id="101" name="Oval 8"/>
          <p:cNvSpPr/>
          <p:nvPr/>
        </p:nvSpPr>
        <p:spPr>
          <a:xfrm>
            <a:off x="1905120" y="5562720"/>
            <a:ext cx="76176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“</a:t>
            </a: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Island-hopping” Strategy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03" name="Picture 7" descr="USA-WWII-2"/>
          <p:cNvPicPr/>
          <p:nvPr/>
        </p:nvPicPr>
        <p:blipFill>
          <a:blip r:embed="rId1"/>
          <a:stretch/>
        </p:blipFill>
        <p:spPr>
          <a:xfrm>
            <a:off x="685800" y="1066680"/>
            <a:ext cx="7772400" cy="5654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“</a:t>
            </a: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Island-hopping”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05" name="Picture 7" descr="Kamikaze_zero"/>
          <p:cNvPicPr/>
          <p:nvPr/>
        </p:nvPicPr>
        <p:blipFill>
          <a:blip r:embed="rId1"/>
          <a:stretch/>
        </p:blipFill>
        <p:spPr>
          <a:xfrm>
            <a:off x="1828800" y="1066680"/>
            <a:ext cx="5562720" cy="45133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556236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ad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fe-and-death struggles against Japanese tro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mikaze pilots crashed into American 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8"/>
          <p:cNvSpPr/>
          <p:nvPr/>
        </p:nvSpPr>
        <p:spPr>
          <a:xfrm>
            <a:off x="2438280" y="1066680"/>
            <a:ext cx="1981440" cy="12193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February and March 1945: Iwo Jima 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09" name="Picture 7" descr="37mm_Gun_fires_against_cave_positions_at_Iwo_Jima"/>
          <p:cNvPicPr/>
          <p:nvPr/>
        </p:nvPicPr>
        <p:blipFill>
          <a:blip r:embed="rId1"/>
          <a:stretch/>
        </p:blipFill>
        <p:spPr>
          <a:xfrm>
            <a:off x="228600" y="4114800"/>
            <a:ext cx="2666880" cy="2287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iwo3"/>
          <p:cNvPicPr/>
          <p:nvPr/>
        </p:nvPicPr>
        <p:blipFill>
          <a:blip r:embed="rId2"/>
          <a:stretch/>
        </p:blipFill>
        <p:spPr>
          <a:xfrm>
            <a:off x="152280" y="990720"/>
            <a:ext cx="1789200" cy="2743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Iwo_Jima_2nd_flag"/>
          <p:cNvPicPr/>
          <p:nvPr/>
        </p:nvPicPr>
        <p:blipFill>
          <a:blip r:embed="rId3"/>
          <a:stretch/>
        </p:blipFill>
        <p:spPr>
          <a:xfrm>
            <a:off x="3809880" y="1066680"/>
            <a:ext cx="5105520" cy="45608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2"/>
          <p:cNvSpPr/>
          <p:nvPr/>
        </p:nvSpPr>
        <p:spPr>
          <a:xfrm>
            <a:off x="5029200" y="5791320"/>
            <a:ext cx="266688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 days of figh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,000 Marines d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April 1945: Okinawa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14" name="Picture 7" descr="okinawa"/>
          <p:cNvPicPr/>
          <p:nvPr/>
        </p:nvPicPr>
        <p:blipFill>
          <a:blip r:embed="rId1"/>
          <a:stretch/>
        </p:blipFill>
        <p:spPr>
          <a:xfrm>
            <a:off x="5486400" y="15228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USMC-M-Okinawa-IFC"/>
          <p:cNvPicPr/>
          <p:nvPr/>
        </p:nvPicPr>
        <p:blipFill>
          <a:blip r:embed="rId2"/>
          <a:stretch/>
        </p:blipFill>
        <p:spPr>
          <a:xfrm>
            <a:off x="533520" y="990720"/>
            <a:ext cx="4140000" cy="4952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okinawa1"/>
          <p:cNvPicPr/>
          <p:nvPr/>
        </p:nvPicPr>
        <p:blipFill>
          <a:blip r:embed="rId3"/>
          <a:stretch/>
        </p:blipFill>
        <p:spPr>
          <a:xfrm>
            <a:off x="5486400" y="3276720"/>
            <a:ext cx="2906640" cy="3429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"/>
          <p:cNvSpPr/>
          <p:nvPr/>
        </p:nvSpPr>
        <p:spPr>
          <a:xfrm>
            <a:off x="762120" y="6078600"/>
            <a:ext cx="350496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,000 troops, 1,213 war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,000 casual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03:22:28Z</dcterms:created>
  <dc:creator>Owner</dc:creator>
  <dc:description/>
  <dc:language>en-US</dc:language>
  <cp:lastModifiedBy>hberndt</cp:lastModifiedBy>
  <dcterms:modified xsi:type="dcterms:W3CDTF">2010-04-08T12:39:48Z</dcterms:modified>
  <cp:revision>5</cp:revision>
  <dc:subject/>
  <dc:title>The War in the Pacific</dc:title>
</cp:coreProperties>
</file>